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2A3-77E7-422C-9A77-D72490D9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7484-6C12-4736-BD1A-BDD266F9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3E40-CCED-48BA-9D84-AB16C3B5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2C8B-8A92-4E18-9C95-B9182566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D2CD-4CB6-42B6-8DAC-D8E42A95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31BC-D3A2-40EA-890A-EDC0E77B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1BBE-E6A4-45A9-8C2E-59AFBDF7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3141-B16F-4992-A402-DFCBAA38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5700-69B8-429A-8C0D-2A5FF484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BBD6-5348-4D58-9AE5-1A65FAD6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179D-2968-480D-B1AF-DE96C428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C62B-43B4-4EE8-AB64-CA1FF42D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461D-E7B2-4DEA-9A28-4A360189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A517-B858-4578-8FEB-F81B5524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A944-D010-4A8D-8B45-8DC80F02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85F3-58BB-4E5C-9E7E-974E1967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52A7-34F0-496C-BFE2-CD2321B3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964-3979-42AF-BD88-916D3051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5DC-A4E9-4C96-94D2-B28EE0CC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1FE-DD6B-455E-B4C3-F75268D9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05CA-308A-4CE2-B27A-205B9392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70C-26D3-4035-B0C1-DDC34228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977-B875-4D28-B987-126E2B3C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A60-D9A8-4AD4-89BA-799E44F4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BDE1-1282-4CAE-91D4-DF793DC8A5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рамка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рамка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B7D5-916F-44A9-89B3-9DCC6893AA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AutoShape 4"/>
          <p:cNvGrpSpPr/>
          <p:nvPr/>
        </p:nvGrpSpPr>
        <p:grpSpPr>
          <a:xfrm>
            <a:off x="1852560" y="1798560"/>
            <a:ext cx="6205680" cy="2932200"/>
            <a:chOff x="1852560" y="1798560"/>
            <a:chExt cx="6205680" cy="2932200"/>
          </a:xfrm>
        </p:grpSpPr>
        <p:pic>
          <p:nvPicPr>
            <p:cNvPr id="85" name="AutoShape 4" descr=""/>
            <p:cNvPicPr/>
            <p:nvPr/>
          </p:nvPicPr>
          <p:blipFill>
            <a:blip r:embed="rId1"/>
            <a:stretch/>
          </p:blipFill>
          <p:spPr>
            <a:xfrm>
              <a:off x="1852560" y="1798560"/>
              <a:ext cx="6205680" cy="29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043000" y="1967040"/>
              <a:ext cx="5819760" cy="25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Подготовка к ЕГ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Тренажё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«Правописание приставок»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111" descr="professor4"/>
          <p:cNvPicPr/>
          <p:nvPr/>
        </p:nvPicPr>
        <p:blipFill>
          <a:blip r:embed="rId2"/>
          <a:stretch/>
        </p:blipFill>
        <p:spPr>
          <a:xfrm>
            <a:off x="304920" y="4343400"/>
            <a:ext cx="990360" cy="18144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2133720" y="228600"/>
            <a:ext cx="548640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«Дмитриевская средняя общеобразовательная школ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1" descr="professor4"/>
          <p:cNvPicPr/>
          <p:nvPr/>
        </p:nvPicPr>
        <p:blipFill>
          <a:blip r:embed="rId3"/>
          <a:stretch/>
        </p:blipFill>
        <p:spPr>
          <a:xfrm>
            <a:off x="7915320" y="4419720"/>
            <a:ext cx="1228680" cy="18144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5"/>
          <p:cNvSpPr/>
          <p:nvPr/>
        </p:nvSpPr>
        <p:spPr>
          <a:xfrm>
            <a:off x="3962520" y="5410080"/>
            <a:ext cx="3809880" cy="533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Андреева О.К., учитель русского языка и лит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C:\Documents and Settings\User\Мои документы\Мои рисунки\Разное\Рисунок14.emf"/>
          <p:cNvPicPr/>
          <p:nvPr/>
        </p:nvPicPr>
        <p:blipFill>
          <a:blip r:embed="rId4"/>
          <a:stretch/>
        </p:blipFill>
        <p:spPr>
          <a:xfrm>
            <a:off x="228600" y="304920"/>
            <a:ext cx="7905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В каком ряду во всех слов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ишется одна и та же букв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е…серебренник, …деш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…торгнуть, ра…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ра, бе…дна, бе…печный, во…то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…мер, чре…мер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…дельник, во…в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…мышления, ра…стояние, чере…ч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НЕ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5638680" y="2362320"/>
            <a:ext cx="3353040" cy="182880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7467480" y="586728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685800" y="1073160"/>
            <a:ext cx="7772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0" y="44280"/>
            <a:ext cx="363600" cy="36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30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3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В каком ряду во всех словах  пропущ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а и та же бук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…гра, пед…нстит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без…зве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…ссыпать, пр…внук, п…дтя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е…заботный, и…мучить,ни…верг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..встать, пр…красный, пр…вокз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НЕ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5638680" y="2362320"/>
            <a:ext cx="3353040" cy="182880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7467480" y="586728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685800" y="1073160"/>
            <a:ext cx="7772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0" y="44280"/>
            <a:ext cx="363600" cy="36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0" y="44280"/>
            <a:ext cx="264960" cy="36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0" y="44280"/>
            <a:ext cx="264960" cy="36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0" y="44280"/>
            <a:ext cx="264960" cy="36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0" y="44280"/>
            <a:ext cx="264960" cy="36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30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57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3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…тревожить, во…клиц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…вед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…нспектор,об…скив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…ду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…сыпать, на…резать, пре…пис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33520" y="5334120"/>
            <a:ext cx="49528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…ступный, пр…мкну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…мерзкая ситу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НЕ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8"/>
          <p:cNvSpPr/>
          <p:nvPr/>
        </p:nvSpPr>
        <p:spPr>
          <a:xfrm>
            <a:off x="5638680" y="2286000"/>
            <a:ext cx="3353040" cy="182880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7467480" y="586728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685800" y="8895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В каком ряду во всех словах пропущена одна и та же буква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38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94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4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430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В каком  ряду во всех словах пропущ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 и та же бук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…бросить,пре…рассуд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…ло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…ложить, чере…полос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…мах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…оритет, пр…открыть, пр…равн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…юльский, спорт…г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…зм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НЕ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5638680" y="2362320"/>
            <a:ext cx="3353040" cy="182880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7467480" y="586728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4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45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67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485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4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03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5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/>
          <p:cNvSpPr/>
          <p:nvPr/>
        </p:nvSpPr>
        <p:spPr>
          <a:xfrm>
            <a:off x="533520" y="685800"/>
            <a:ext cx="8153280" cy="148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В каком ряду во всех слов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шется одна и та же буква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…форменный, …дача, бе…возвра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…клонить голову,пр…ступить к рабо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…ем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…мпериализм, меж…рригацио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т…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…пирать, пр…делки, пр…ба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НЕ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5638680" y="2362320"/>
            <a:ext cx="3353040" cy="182880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7467480" y="586728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2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5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40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5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58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5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1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76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5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В  каком ряду во всех слов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шется одна и та же бук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…бавить,по…шутить,о…бле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…баутка, пр…дание стари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…кр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…кликнуть,ра…шить, ….держ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…мпровизировать,вз…м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…мя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НЕ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8"/>
          <p:cNvSpPr/>
          <p:nvPr/>
        </p:nvSpPr>
        <p:spPr>
          <a:xfrm>
            <a:off x="5638680" y="2362320"/>
            <a:ext cx="3353040" cy="182880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/>
          <p:cNvSpPr/>
          <p:nvPr/>
        </p:nvSpPr>
        <p:spPr>
          <a:xfrm>
            <a:off x="7467480" y="586728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59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5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613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631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4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В каком  ряду во всех словах пиш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 и та же бук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…скать, пред…стор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рх…нтере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…вилегия, пр…зиден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…пят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ь, и…чезнуть, ра…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..писать, по…сказать,  о…кр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НЕ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5638680" y="2362320"/>
            <a:ext cx="3353040" cy="182880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467480" y="586728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66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1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686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704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7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722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7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705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Ивашова О.Д. Русский язык. Пособие для подготовки к ЕГЭ и централизованному тестированию: учебно-методическое пособие./ Коллектив авторов.- М.: Издательство «Экзамен», 2006.-223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http://it-n.ru/communities.aspx?cat_no=130742&amp;tmpl=com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Захарова Т.А., Байдакова Т.Б. Шаблон учебного тренажёра и проверочного теста по русскому язы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533520" y="650880"/>
            <a:ext cx="81532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589200" y="76212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533520" y="1793880"/>
            <a:ext cx="8153280" cy="392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Правописание некоторых приставок надо запомнить, они не изменяются ни при каких условиях: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-, от-, над-, под-, пред-, в-, с-, пере-, д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ти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ти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ти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ите внимание, что приставка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ечи перед звонкими согласными озвончается, а на письме не изменяется (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жать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 приставках н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-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без-бес- воз- (вз-)вос-(вс-), из-ис-, низ-нис-, раз-(роз-)-рас-(рос-), через-черес- (чрес-) пишется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 звонкими согласными(безводный,разгораться), а перед глухими согласными пишется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беспредельный, восстат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838080" y="533520"/>
            <a:ext cx="7315200" cy="76176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собую трудность составляют приставк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е-при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основном их различие строится на лексическом знач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Приставка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РЕ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- име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е высокой степени качества (преинтересный=очень интерес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значению близка к значению приставк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РЕ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Приставка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РИ-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имеет в зна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ранственной близости(пригородны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лижения, присоединения (приблизиться, приплы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лноты действия (прикрыть, приостановитьс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едения действия до конца (прибить, пристукну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ия действия в чьих-либо интересах (припрята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йте различ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бывать (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где-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прибывать (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уда-то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изирать(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риют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презирать(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енавиде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преклонить (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голов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приклонить(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ет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преступить(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зак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приступить (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 дел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Гласные Ы-И после пристав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приставок, оканчивающихся на согласную, пиш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Ы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не И, как и  слышится: искать-под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ть, играть-раз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приставок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Ж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ВЕРХ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иш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меж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ститутский, сверх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терес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иноязычных приставок (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ОНТР-, СУБ-, ПАН-, ТРАНС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пиш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контриг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ожносокращённых словах И сохраняется: пед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ститут, спорт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вента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осле приставки, оканчивающейся на гласную, пиш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ть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Запомнит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ЗИМ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/>
          <p:cNvSpPr/>
          <p:nvPr/>
        </p:nvSpPr>
        <p:spPr>
          <a:xfrm>
            <a:off x="533520" y="650880"/>
            <a:ext cx="81532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829520" y="762120"/>
            <a:ext cx="54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а пользования тренажё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533520" y="1793880"/>
            <a:ext cx="8153280" cy="392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96240" y="1905120"/>
            <a:ext cx="7663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Каждое задание имеет четыре варианта отве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бе необходимо выбра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дин вер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Если ты выбрал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вет, появится на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ы молодец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Если ты выбрал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вер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вет, поя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пись «Это не так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е забудь: ты сам считаешь 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х ответ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ереход к следующему заданию осущест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нопк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Дал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В каком ряду во всех словах  пропущ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 и та же бук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533520" y="2895480"/>
            <a:ext cx="3809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…ставить, в…зобнов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…дроб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4952880" y="2895480"/>
            <a:ext cx="38102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…становить,бе…дельн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рос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533520" y="4724280"/>
            <a:ext cx="3809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…грать,по…гр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…с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4952880" y="4724280"/>
            <a:ext cx="39625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…остановить, пр…следов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…д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2895480" y="3276720"/>
            <a:ext cx="3353040" cy="182880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7"/>
          <p:cNvSpPr/>
          <p:nvPr/>
        </p:nvSpPr>
        <p:spPr>
          <a:xfrm>
            <a:off x="2819520" y="3276720"/>
            <a:ext cx="3352680" cy="1828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НЕ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9"/>
          <p:cNvSpPr/>
          <p:nvPr/>
        </p:nvSpPr>
        <p:spPr>
          <a:xfrm>
            <a:off x="7467480" y="586728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0" y="44280"/>
            <a:ext cx="264960" cy="36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3"/>
          <p:cNvSpPr/>
          <p:nvPr/>
        </p:nvSpPr>
        <p:spPr>
          <a:xfrm>
            <a:off x="533520" y="609480"/>
            <a:ext cx="8153280" cy="148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аком ряду во всех слова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ущена одна и та же бук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533520" y="2895480"/>
            <a:ext cx="3809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…остановить,пр…следов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…б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4952880" y="4724280"/>
            <a:ext cx="38102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…дробно, пред…став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…зиди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876920" y="2895480"/>
            <a:ext cx="3809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…грать,под…гр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…с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533520" y="4724280"/>
            <a:ext cx="3809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…дельник, во…станов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"/>
          <p:cNvSpPr/>
          <p:nvPr/>
        </p:nvSpPr>
        <p:spPr>
          <a:xfrm>
            <a:off x="2895480" y="3276720"/>
            <a:ext cx="3353040" cy="1828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НЕ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2895480" y="3200400"/>
            <a:ext cx="3353040" cy="182880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7467480" y="586728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…ключение, пр…вязан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…зид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…вратник, пр…ступить за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33520" y="5334120"/>
            <a:ext cx="49528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…грать, под…ск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…с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33520" y="3429000"/>
            <a:ext cx="49528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…бывать в городе, пр…ступить к дел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…клонить вет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НЕ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5638680" y="2362320"/>
            <a:ext cx="3353040" cy="18288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7467480" y="586728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685800" y="707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В каком ряду во всех слова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ущена одна и та же бук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3-01-12T10:21:51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